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A180-7D2A-497E-819B-5272C2548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C430-AD16-4CC3-9653-07A4E1512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2AED-5237-48C0-AAAC-B54D22FBC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BFC8-2EB7-47B6-98B9-F457F61C6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63F88-88D1-4423-B168-4A7EC3331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0F269-95A5-432D-8EB6-405E2A45E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E6270-4F4B-4889-B525-8E676D72F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15636-AE9F-486F-8042-FDF5E3B8B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BAAD9-B014-4C0A-8E2C-C1C864B10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91A41-0DFB-4203-B866-78C106E78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A05B8-D1EB-4371-9986-E47D314D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9880-67AA-41B4-BBD8-4106FEF9D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FA892-F581-4563-88FF-5B2C7810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0E7E6-49DD-4D63-8813-9147A43C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A7652-6BFF-4D88-AA5B-9A9F576D0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3DDD1-BB72-4771-9E35-7664ACDC0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2AC27-AF2D-4754-92EF-FB4FFD60E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12C0-AECF-4A3A-B9B4-C9E4B4BEA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A456-BA5E-4E92-8810-EF48D7B89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36F8-41CD-4087-83C6-954C54E40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4E4C-0CD4-420B-8C7D-0894206A1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045C-4B00-403A-83F9-3027014F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B29D-7E5B-4F44-AB1D-C3ECF831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D0CC-43CD-4C4B-BFD3-7B97D98E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4a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3d4a1c"/>
              </a:gs>
              <a:gs pos="100000">
                <a:srgbClr val="66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cc99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9F574-4B6D-4AD9-8C41-1F904038320F}" type="slidenum"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4a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5D3A5-4391-4A61-9E45-1B77264CF542}" type="slidenum"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3d4a1c"/>
                </a:gs>
                <a:gs pos="100000">
                  <a:srgbClr val="66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4a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allery Walk Day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218960" y="3733920"/>
            <a:ext cx="65530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Please take a </a:t>
            </a: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pink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notes sheet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Did anyone drop off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ate work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on my desk with no name on Wed/Thurs? Tell me if it was yours!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Have your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Info Area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contribution to the group project ready. Decide as a group which poster color you want!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029200" y="836640"/>
            <a:ext cx="4051440" cy="27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4a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uesday, Jan. 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kinny” schedule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5</a:t>
            </a:r>
            <a:r>
              <a:rPr b="0" lang="en-US" sz="2800" spc="-1" strike="noStrike" baseline="30000">
                <a:solidFill>
                  <a:srgbClr val="f8f8f8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hour: 10-10:50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6</a:t>
            </a:r>
            <a:r>
              <a:rPr b="0" lang="en-US" sz="2800" spc="-1" strike="noStrike" baseline="30000">
                <a:solidFill>
                  <a:srgbClr val="f8f8f8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hour: 12:30-1:20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IF NEEDED – finish practice seminar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4a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uesday, Jan. 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Work time on biographies and char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TICKET IN THE DOOR for the final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Not finished on th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ay of the final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2" marL="1293840" indent="-403200">
              <a:spcBef>
                <a:spcPts val="601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Completing on your own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2" marL="1293840" indent="-403200">
              <a:spcBef>
                <a:spcPts val="601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No participation in the seminar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2" marL="1293840" indent="-403200">
              <a:spcBef>
                <a:spcPts val="601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Still must write the reflection at </a:t>
            </a:r>
            <a:br>
              <a:rPr sz="2400"/>
            </a:b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the end of the period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2" marL="1293840" indent="-403200">
              <a:spcBef>
                <a:spcPts val="601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8f8f8"/>
                </a:solidFill>
                <a:latin typeface="Arial"/>
              </a:rPr>
              <a:t>Maximum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grade you can </a:t>
            </a:r>
            <a:br>
              <a:rPr sz="2400"/>
            </a:b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achieve is a D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867280" y="3429000"/>
            <a:ext cx="31244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4a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You have 10 minutes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Using a large piece of poster paper,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assemble your project area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Make sure the right info is near the right picture, etc…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Don’t forget the introduction info! (names, countries involved, dates, etc…)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each your other groupmates about your question/topic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Fill out your section on the Notes Sheet together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with basic ideas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4a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ound 1 of the Gallery Wal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48960" y="1980720"/>
            <a:ext cx="7661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Half of your group will remain at the presentation area to teach about your region/country.  Help them feel ready to represent your group!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14600" y="4038480"/>
            <a:ext cx="44766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4a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ound 1 of the Gallery Wal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The other ½ of your group can wander around the Gallery, learning and taking notes on the other regions/countries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9900"/>
                </a:solidFill>
                <a:uFillTx/>
                <a:latin typeface="Arial"/>
              </a:rPr>
              <a:t>Read/look at the information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on the posters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9900"/>
                </a:solidFill>
                <a:uFillTx/>
                <a:latin typeface="Arial"/>
              </a:rPr>
              <a:t>Ask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the group “teachers” questions! It is part of your individual grade to </a:t>
            </a:r>
            <a:r>
              <a:rPr b="1" lang="en-US" sz="2400" spc="-1" strike="noStrike" u="sng">
                <a:solidFill>
                  <a:srgbClr val="cc9900"/>
                </a:solidFill>
                <a:uFillTx/>
                <a:latin typeface="Arial"/>
              </a:rPr>
              <a:t>try your best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in teaching your classmates some things about your region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Should spend about </a:t>
            </a:r>
            <a:r>
              <a:rPr b="1" lang="en-US" sz="2400" spc="-1" strike="noStrike" u="sng">
                <a:solidFill>
                  <a:srgbClr val="cc9900"/>
                </a:solidFill>
                <a:uFillTx/>
                <a:latin typeface="Arial"/>
              </a:rPr>
              <a:t>5-7 minutes at each region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5 minutes for Round 1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4a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ound 2 of the Gallery Wal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48960" y="1980720"/>
            <a:ext cx="7661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Meet back up with your group at your presentation area!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Discuss for 1-2 minutes how the round went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WITCH!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The Round 1 “teachers” now wander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The Round 1 “wanderers” now help represent your region/country!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4a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ound 2 of the Gallery Wal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The other ½ of your group can wander around the Gallery, learning and taking notes on the other regions/countries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9900"/>
                </a:solidFill>
                <a:uFillTx/>
                <a:latin typeface="Arial"/>
              </a:rPr>
              <a:t>Read/look at the information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on the posters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9900"/>
                </a:solidFill>
                <a:uFillTx/>
                <a:latin typeface="Arial"/>
              </a:rPr>
              <a:t>Ask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the group “teachers” questions! It is part of your individual grade to </a:t>
            </a:r>
            <a:r>
              <a:rPr b="1" lang="en-US" sz="2400" spc="-1" strike="noStrike" u="sng">
                <a:solidFill>
                  <a:srgbClr val="cc9900"/>
                </a:solidFill>
                <a:uFillTx/>
                <a:latin typeface="Arial"/>
              </a:rPr>
              <a:t>try your best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in teaching your classmates some things about your region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Should spend about </a:t>
            </a:r>
            <a:r>
              <a:rPr b="1" lang="en-US" sz="2400" spc="-1" strike="noStrike" u="sng">
                <a:solidFill>
                  <a:srgbClr val="cc9900"/>
                </a:solidFill>
                <a:uFillTx/>
                <a:latin typeface="Arial"/>
              </a:rPr>
              <a:t>5-7 minutes at each region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5 minutes for Round 2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4a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roup Dynamics Evalu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980720" y="1523880"/>
            <a:ext cx="6629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f8f8"/>
                </a:solidFill>
                <a:latin typeface="Arial"/>
              </a:rPr>
              <a:t>Fill out the evaluation on the BACK of your </a:t>
            </a:r>
            <a:r>
              <a:rPr b="1" lang="en-US" sz="2600" spc="-1" strike="noStrike">
                <a:solidFill>
                  <a:srgbClr val="0066ff"/>
                </a:solidFill>
                <a:latin typeface="Arial"/>
              </a:rPr>
              <a:t>blue</a:t>
            </a:r>
            <a:r>
              <a:rPr b="0" lang="en-US" sz="2600" spc="-1" strike="noStrike">
                <a:solidFill>
                  <a:srgbClr val="f8f8f8"/>
                </a:solidFill>
                <a:latin typeface="Arial"/>
              </a:rPr>
              <a:t> project packet.</a:t>
            </a:r>
            <a:endParaRPr b="0" lang="en-US" sz="2600" spc="-1" strike="noStrike">
              <a:solidFill>
                <a:srgbClr val="f8f8f8"/>
              </a:solidFill>
              <a:latin typeface="Arial"/>
            </a:endParaRPr>
          </a:p>
          <a:p>
            <a:pPr lvl="1" marL="972720" indent="-52812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f8f8"/>
                </a:solidFill>
                <a:latin typeface="Arial"/>
              </a:rPr>
              <a:t>List your name and group member names.</a:t>
            </a:r>
            <a:endParaRPr b="0" lang="en-US" sz="2600" spc="-1" strike="noStrike">
              <a:solidFill>
                <a:srgbClr val="f8f8f8"/>
              </a:solidFill>
              <a:latin typeface="Arial"/>
            </a:endParaRPr>
          </a:p>
          <a:p>
            <a:pPr lvl="1" marL="972720" indent="-52812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f8f8"/>
                </a:solidFill>
                <a:latin typeface="Arial"/>
              </a:rPr>
              <a:t>Score of 1-4 for each question.</a:t>
            </a:r>
            <a:endParaRPr b="0" lang="en-US" sz="2600" spc="-1" strike="noStrike">
              <a:solidFill>
                <a:srgbClr val="f8f8f8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8f8f8"/>
                </a:solidFill>
                <a:latin typeface="Arial"/>
              </a:rPr>
              <a:t>4 = Yes, absolutely!</a:t>
            </a:r>
            <a:endParaRPr b="0" lang="en-US" sz="2600" spc="-1" strike="noStrike">
              <a:solidFill>
                <a:srgbClr val="f8f8f8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8f8f8"/>
                </a:solidFill>
                <a:latin typeface="Arial"/>
              </a:rPr>
              <a:t>3 = Yes, mostly.</a:t>
            </a:r>
            <a:endParaRPr b="0" lang="en-US" sz="2600" spc="-1" strike="noStrike">
              <a:solidFill>
                <a:srgbClr val="f8f8f8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8f8f8"/>
                </a:solidFill>
                <a:latin typeface="Arial"/>
              </a:rPr>
              <a:t>2 = No, not really.</a:t>
            </a:r>
            <a:endParaRPr b="0" lang="en-US" sz="2600" spc="-1" strike="noStrike">
              <a:solidFill>
                <a:srgbClr val="f8f8f8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8f8f8"/>
                </a:solidFill>
                <a:latin typeface="Arial"/>
              </a:rPr>
              <a:t>1 = No, not at all.</a:t>
            </a:r>
            <a:endParaRPr b="0" lang="en-US" sz="2600" spc="-1" strike="noStrike">
              <a:solidFill>
                <a:srgbClr val="f8f8f8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8f8f8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8f8f8"/>
                </a:solidFill>
                <a:latin typeface="Arial"/>
              </a:rPr>
              <a:t>Turn in your entire </a:t>
            </a:r>
            <a:r>
              <a:rPr b="1" lang="en-US" sz="2600" spc="-1" strike="noStrike">
                <a:solidFill>
                  <a:srgbClr val="0066ff"/>
                </a:solidFill>
                <a:latin typeface="Arial"/>
              </a:rPr>
              <a:t>blue</a:t>
            </a:r>
            <a:r>
              <a:rPr b="0" lang="en-US" sz="2600" spc="-1" strike="noStrike">
                <a:solidFill>
                  <a:srgbClr val="f8f8f8"/>
                </a:solidFill>
                <a:latin typeface="Arial"/>
              </a:rPr>
              <a:t> packet AND your Notes Sheet when finished.</a:t>
            </a:r>
            <a:endParaRPr b="0" lang="en-US" sz="26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08" name="" descr="[imperialism.gif]"/>
          <p:cNvPicPr/>
          <p:nvPr/>
        </p:nvPicPr>
        <p:blipFill>
          <a:blip r:embed="rId1"/>
          <a:stretch/>
        </p:blipFill>
        <p:spPr>
          <a:xfrm>
            <a:off x="152280" y="350532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4a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2975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mester One Final SEMINAR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haracter chart and biographies!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NOT ADAM SMITH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Who made the biggest impact?”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= winner of the TIME Person of the Semester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019920" y="2590920"/>
            <a:ext cx="1780920" cy="2266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638680" y="2743200"/>
            <a:ext cx="2743200" cy="19810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715000" y="2666880"/>
            <a:ext cx="2590920" cy="19051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4a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2975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mester One Final SEMINAR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Review seminar guidelines and rubric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minar etiquette -- PRACTICE seminar…?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438280" y="361944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2T23:24:01Z</dcterms:created>
  <dc:creator>MCPASD</dc:creator>
  <dc:description/>
  <dc:language>en-US</dc:language>
  <cp:lastModifiedBy>MCPASD</cp:lastModifiedBy>
  <dcterms:modified xsi:type="dcterms:W3CDTF">2012-01-13T19:12:45Z</dcterms:modified>
  <cp:revision>16</cp:revision>
  <dc:subject/>
  <dc:title>Gallery Walk Day!</dc:title>
</cp:coreProperties>
</file>